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201-D40B-4EFA-B056-F50A5969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A85-ECF2-467E-913E-BEE41B17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246-3C2C-4A41-B7C5-D94F86D9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2BA-7743-4D0C-A669-C5C030D9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D8C-45A5-4AAD-833C-A738E23F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F40-CA77-46E3-84DD-5E6E8E31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5A0-B556-4F03-8786-7DB535CC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EAB-4F04-4632-A35B-593E19C1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AAD-4F57-4876-A526-BEB7C723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EC1-7817-4D9B-BEC5-95F66A41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CFB-5D0D-4654-9AF8-D3EC28FC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1E5-B1A8-4A57-B730-140B8DE3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11933-11D1-4E00-B6AF-619E18C32CD5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65160" y="3505320"/>
            <a:ext cx="2930400" cy="188640"/>
            <a:chOff x="65160" y="3505320"/>
            <a:chExt cx="2930400" cy="188640"/>
          </a:xfrm>
        </p:grpSpPr>
        <p:pic>
          <p:nvPicPr>
            <p:cNvPr id="44" name="Imagen 6" descr=""/>
            <p:cNvPicPr/>
            <p:nvPr/>
          </p:nvPicPr>
          <p:blipFill>
            <a:blip r:embed="rId2"/>
            <a:stretch/>
          </p:blipFill>
          <p:spPr>
            <a:xfrm>
              <a:off x="2251080" y="3563640"/>
              <a:ext cx="744480" cy="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65160" y="3505320"/>
              <a:ext cx="2146320" cy="18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6-11T12:16:36Z</dcterms:modified>
  <cp:revision>7</cp:revision>
  <dc:subject/>
  <dc:title>PowerPoint Presentation</dc:title>
</cp:coreProperties>
</file>